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F684-1F02-410F-82AD-7AAC8A3AD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8DF-7D15-4F8A-8379-881DD268F0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4EF-3A96-4E9F-ACFA-77A60FF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DB6-B227-4D9F-83F4-99555DE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429-00D1-4399-811E-5BEFDBD6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D08-CD05-49EA-8D8B-9E61B8FE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2AF4-0576-4DEC-9808-43A0DECF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FF1-B3A6-40EB-AA45-996C7A8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449A-F506-49FB-890A-DAA4D3B3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BD8-C5B0-40F0-974D-97892FD9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CB30-14AA-40AC-8F9B-762D548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BCF7-BB97-4002-95BB-5FFF8D3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A605-7878-4AE5-808D-4B239EC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275-F050-4108-84C8-7B159A5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358E-85C0-4D3E-9460-FD1583F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545-5D5C-4B6C-9C84-2B397C9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091A-2033-4C10-95BE-351B209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51BF-404A-4EE8-B088-5C361B5E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74FF-54AC-48C7-933E-EA8DB2CF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DEA-DFA0-48CE-9690-E41D1FD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440-437A-4983-B3C4-EBCB6A5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274-868B-4C31-9E5F-B2E42FB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96C-4D61-43CD-A5CA-63C6492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422-CEAD-488C-BE54-F82CBD8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EE7-7BF0-4BD4-8A30-5E2F4DA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32A-F562-4A8B-9B73-1BABAAC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EEA8-0CE3-44A6-ADEA-67C9E66D8E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A804-2875-4D89-9FD7-FD5FA945455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7" descr="3105911.jpg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993600"/>
            <a:ext cx="8746920" cy="2067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28440" y="4714560"/>
            <a:ext cx="39862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ленький или большо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857840" y="107172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ёмный или светлы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214880" y="500076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в нём есть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0" y="5715000"/>
            <a:ext cx="3986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и ли мы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285840" y="1571760"/>
            <a:ext cx="3986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лько звёзд на неб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0040" y="2571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ственный целостный комплекс всего существующего (от галактик до элементарных частиц и окружающей их среды). Он Идеален, так как беспределен во времени и пространстве, всё остальное относитель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, не все. К примеру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год примерно открывают 2-3 новых, ещё ни кем не видимых комет. Их может увидеть первым не только астроном профессионал в телескоп с гигантским приближением, но и астроном любитель, в не слишком дорогостоящий телеско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571760" y="4714920"/>
            <a:ext cx="6400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0840" y="30240"/>
            <a:ext cx="82422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714560" y="85680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ксима Центавра и Альфа Центавра – находяться в 270000 раз дальше от земли, чем солнце. Лучу света от этих звёзд приходится лететь до Земли примерно – 4,5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3" descr="fodmain.jpg"/>
          <p:cNvPicPr/>
          <p:nvPr/>
        </p:nvPicPr>
        <p:blipFill>
          <a:blip r:embed="rId2"/>
          <a:stretch/>
        </p:blipFill>
        <p:spPr>
          <a:xfrm>
            <a:off x="142920" y="1285920"/>
            <a:ext cx="4833720" cy="362592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285840" y="4929120"/>
            <a:ext cx="407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ксима Центав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7:41:59Z</dcterms:created>
  <dc:creator>Vasilek</dc:creator>
  <dc:description/>
  <dc:language>en-US</dc:language>
  <cp:lastModifiedBy>26058</cp:lastModifiedBy>
  <dcterms:modified xsi:type="dcterms:W3CDTF">2010-05-31T12:38:35Z</dcterms:modified>
  <cp:revision>26</cp:revision>
  <dc:subject/>
  <dc:title>Какой он - космос?</dc:title>
</cp:coreProperties>
</file>